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918-D192-4CD9-871A-72A766BB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FFF-214B-4E02-88C0-F1E1F240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A68-0BA1-44ED-9855-17F160D9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952-B3A6-4055-8173-DF8F4774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691-091F-408A-AE69-E4319970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60C-1181-4CEF-AB74-1EF7B839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BE2-29C0-4E74-BCA9-7364F7F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914-A5C4-4478-BDBB-255AB7B2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940-A90C-40A2-8C13-5AD2DCD4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B81-A19A-47B3-A7E9-169FF4C2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EFA-EBD8-4ED3-9A15-02CF8CF7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7B5-EC4F-4FF9-989B-6A2D4812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B7DB-2447-4C89-9E18-7BBC2DF4E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22:58Z</dcterms:created>
  <dc:creator> </dc:creator>
  <dc:description/>
  <dc:language>en-US</dc:language>
  <cp:lastModifiedBy> </cp:lastModifiedBy>
  <dcterms:modified xsi:type="dcterms:W3CDTF">2009-03-03T17:23:18Z</dcterms:modified>
  <cp:revision>1</cp:revision>
  <dc:subject/>
  <dc:title>Slide 1</dc:title>
</cp:coreProperties>
</file>